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82CD-B4E5-40B3-98F0-76F439E48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6D60-D6E7-4443-B751-27E66216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F760-0AB1-46D5-BB05-73D95BF87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0C33-00C0-4B96-82B9-8EE09E5AA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D219-D93D-40D1-B5B9-14488768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E807-9CA9-440A-9A2A-86CCAA57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29C7-DDFE-464C-AF79-50620ED9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62EB-F6DF-4ADC-B3A1-D20252F3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8F2A-D890-4AA3-BF8B-8C172B5A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0D7E-23C6-4B66-A6C1-01242047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08DD-559A-4B40-9D40-528765A9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88EA-4F91-448A-8137-B850AE30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2C8B-E22D-41C1-A9A5-4D7CE82211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1974960" y="927000"/>
            <a:ext cx="5297400" cy="114624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755640" y="1841400"/>
            <a:ext cx="2127240" cy="1146240"/>
          </a:xfrm>
          <a:prstGeom prst="rect">
            <a:avLst/>
          </a:prstGeom>
          <a:ln w="0">
            <a:noFill/>
          </a:ln>
        </p:spPr>
      </p:pic>
      <p:pic>
        <p:nvPicPr>
          <p:cNvPr id="43" name="Rectangle 5" descr=""/>
          <p:cNvPicPr/>
          <p:nvPr/>
        </p:nvPicPr>
        <p:blipFill>
          <a:blip r:embed="rId3"/>
          <a:stretch/>
        </p:blipFill>
        <p:spPr>
          <a:xfrm>
            <a:off x="2146320" y="1957320"/>
            <a:ext cx="2846520" cy="112716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6" descr=""/>
          <p:cNvPicPr/>
          <p:nvPr/>
        </p:nvPicPr>
        <p:blipFill>
          <a:blip r:embed="rId4"/>
          <a:stretch/>
        </p:blipFill>
        <p:spPr>
          <a:xfrm>
            <a:off x="2530440" y="2792520"/>
            <a:ext cx="2419560" cy="110952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7" descr=""/>
          <p:cNvPicPr/>
          <p:nvPr/>
        </p:nvPicPr>
        <p:blipFill>
          <a:blip r:embed="rId5"/>
          <a:stretch/>
        </p:blipFill>
        <p:spPr>
          <a:xfrm>
            <a:off x="2975040" y="3670200"/>
            <a:ext cx="2571840" cy="114624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8" descr=""/>
          <p:cNvPicPr/>
          <p:nvPr/>
        </p:nvPicPr>
        <p:blipFill>
          <a:blip r:embed="rId6"/>
          <a:stretch/>
        </p:blipFill>
        <p:spPr>
          <a:xfrm>
            <a:off x="3475080" y="4657680"/>
            <a:ext cx="220644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ectangle 3" descr=""/>
          <p:cNvPicPr/>
          <p:nvPr/>
        </p:nvPicPr>
        <p:blipFill>
          <a:blip r:embed="rId1"/>
          <a:stretch/>
        </p:blipFill>
        <p:spPr>
          <a:xfrm>
            <a:off x="1511280" y="622440"/>
            <a:ext cx="6267600" cy="114588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4" descr=""/>
          <p:cNvPicPr/>
          <p:nvPr/>
        </p:nvPicPr>
        <p:blipFill>
          <a:blip r:embed="rId2"/>
          <a:stretch/>
        </p:blipFill>
        <p:spPr>
          <a:xfrm>
            <a:off x="2871720" y="2401920"/>
            <a:ext cx="3737160" cy="1116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5" descr=""/>
          <p:cNvPicPr/>
          <p:nvPr/>
        </p:nvPicPr>
        <p:blipFill>
          <a:blip r:embed="rId3"/>
          <a:stretch/>
        </p:blipFill>
        <p:spPr>
          <a:xfrm>
            <a:off x="2286000" y="4322880"/>
            <a:ext cx="479736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33520" y="6858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os chansons preferees sont “Not Afraid”, “When I’m Gone”, et “Savior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menem et Rise Against chantent nos chansons prefere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os styles de musique preferees sont rap et po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Quand nous ecoutons nos chansons preferees, nous entendons un message de cole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 theme de nos chansons preferees est la cole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Je joue de la guitare, et j’aimerais jouer la batter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Quand nous ecoutons du rap, nous entendons le rythme de la voix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Quand nous ecoutons du rap, nous nous sentons exci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Quand nous entendons cette musique, nous sentons une sensation de per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Rectangle 5" descr=""/>
          <p:cNvPicPr/>
          <p:nvPr/>
        </p:nvPicPr>
        <p:blipFill>
          <a:blip r:embed="rId1"/>
          <a:stretch/>
        </p:blipFill>
        <p:spPr>
          <a:xfrm>
            <a:off x="1006560" y="622440"/>
            <a:ext cx="6265800" cy="114588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2" descr=""/>
          <p:cNvPicPr/>
          <p:nvPr/>
        </p:nvPicPr>
        <p:blipFill>
          <a:blip r:embed="rId2"/>
          <a:stretch/>
        </p:blipFill>
        <p:spPr>
          <a:xfrm>
            <a:off x="1974960" y="2414520"/>
            <a:ext cx="4213080" cy="1938240"/>
          </a:xfrm>
          <a:prstGeom prst="rect">
            <a:avLst/>
          </a:prstGeom>
          <a:ln w="0">
            <a:noFill/>
          </a:ln>
        </p:spPr>
      </p:pic>
      <p:pic>
        <p:nvPicPr>
          <p:cNvPr id="53" name="Rectangle 3" descr=""/>
          <p:cNvPicPr/>
          <p:nvPr/>
        </p:nvPicPr>
        <p:blipFill>
          <a:blip r:embed="rId3"/>
          <a:stretch/>
        </p:blipFill>
        <p:spPr>
          <a:xfrm>
            <a:off x="1908000" y="4705200"/>
            <a:ext cx="47977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0492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Quand nous ecoutons nos chansons preferees, nous entendons un message de cole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 theme de nos chansons preferees est la cole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Je joue de la guitare, et j’aimerais jouer la batteri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Quand nous ecoutons du rap, nous entendons le rythme de la voix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Quand nous ecoutons du rap, nous nous sentons sen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Quand nous entendons cette musique, nous imaginons quelque chose la doule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Rectangle 3" descr=""/>
          <p:cNvPicPr/>
          <p:nvPr/>
        </p:nvPicPr>
        <p:blipFill>
          <a:blip r:embed="rId1"/>
          <a:stretch/>
        </p:blipFill>
        <p:spPr>
          <a:xfrm>
            <a:off x="1116000" y="396720"/>
            <a:ext cx="7132680" cy="1140120"/>
          </a:xfrm>
          <a:prstGeom prst="rect">
            <a:avLst/>
          </a:prstGeom>
          <a:ln w="0">
            <a:noFill/>
          </a:ln>
        </p:spPr>
      </p:pic>
      <p:pic>
        <p:nvPicPr>
          <p:cNvPr id="56" name="Rectangle 4" descr=""/>
          <p:cNvPicPr/>
          <p:nvPr/>
        </p:nvPicPr>
        <p:blipFill>
          <a:blip r:embed="rId2"/>
          <a:stretch/>
        </p:blipFill>
        <p:spPr>
          <a:xfrm>
            <a:off x="2914560" y="2792520"/>
            <a:ext cx="3022560" cy="1133280"/>
          </a:xfrm>
          <a:prstGeom prst="rect">
            <a:avLst/>
          </a:prstGeom>
          <a:ln w="0">
            <a:noFill/>
          </a:ln>
        </p:spPr>
      </p:pic>
      <p:pic>
        <p:nvPicPr>
          <p:cNvPr id="57" name="Rectangle 5" descr=""/>
          <p:cNvPicPr/>
          <p:nvPr/>
        </p:nvPicPr>
        <p:blipFill>
          <a:blip r:embed="rId3"/>
          <a:stretch/>
        </p:blipFill>
        <p:spPr>
          <a:xfrm>
            <a:off x="1450800" y="4780080"/>
            <a:ext cx="635796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304920" y="838080"/>
            <a:ext cx="8610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nd nous ecoutons nos chansons preferees, nous entendons un message de col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 theme de nos chansons preferees est la col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 joue de la guitare, et j’aimerais jouer la instrument electr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nd nous ecoutons du pop, nous entendons le rythme des instrum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nd nous ecoutons du pop, nous nous sentons cal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nd nous entendons cette musique, nous imaginons quelque chose a develop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Rectangle 3" descr=""/>
          <p:cNvPicPr/>
          <p:nvPr/>
        </p:nvPicPr>
        <p:blipFill>
          <a:blip r:embed="rId1"/>
          <a:stretch/>
        </p:blipFill>
        <p:spPr>
          <a:xfrm>
            <a:off x="2432160" y="2120760"/>
            <a:ext cx="3767040" cy="19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2:52:04Z</dcterms:created>
  <dc:creator>McDonald-O'Donnell, Dalton</dc:creator>
  <dc:description/>
  <dc:language>en-US</dc:language>
  <cp:lastModifiedBy> </cp:lastModifiedBy>
  <dcterms:modified xsi:type="dcterms:W3CDTF">2010-10-21T13:10:19Z</dcterms:modified>
  <cp:revision>11</cp:revision>
  <dc:subject/>
  <dc:title>Slide 1</dc:title>
</cp:coreProperties>
</file>